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45F-8E28-4E2B-AC74-80ACAF5F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ECF-166D-4B8B-AFAC-3DD42F13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53F-B0FD-4177-BC5A-BC5A6292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E46-E9E6-4641-93BF-06710A81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AA88-E4CC-4403-B21F-87F26E61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C576-230A-4202-BA8C-119DACA7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5A5B-38FF-432A-BB15-30829C57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8DA2-5005-4A3F-AA33-E3246DB7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15F4-59ED-42E0-B7CF-EFAE3B38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C319-5B22-48ED-84B4-C5BDBA28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9B72-3417-4E58-A34B-3C5C9060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6B1-56A0-4572-9022-1D63B326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207E-6513-4079-AB5B-607F0123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E2E0-314E-4E58-BFD6-F31B0DDB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F3EF-1F0B-4576-A7C5-83829477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B1A4-E4FC-47A9-B2A4-61D2ED5C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C1D3-2EC3-4F3D-A62C-685D3769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A80-B008-41A2-9745-EA04872A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DBD-CDB5-4802-8B27-D267E1F2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D62-F97A-4B25-AEB7-20F9455E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730-F886-42E0-BF85-7047333F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195-8A1E-415E-B1E3-7EF5E05C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EE8-2A14-4AD9-955E-C3F9E486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152-815D-4FE0-98E2-A91058A2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0188-C002-4C8A-904C-AECF2B88C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72AC-B29B-4224-B011-724FD1450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ersonal Finan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roduction and Financial Fa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Personal Financ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Finance deals with everything in your life that involves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has at least some experience with money. This includes everyone sitting in this class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to ask ourselves why so many people have money proble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work this Semester/Quarter to provide you with information that will help you make wise financial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me Financial Fac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40% of Americans spend more money than they ea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savings rate in the United States is 2.8%. (Excludes money that is invested in retirement account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half of all working age Americans have less than $10,000 saved for retir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inu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6% of all Americans will be financially dependent on the government, family, or charity at retir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2% of homes in the United States are completely paid for and do not have a mortg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American carries a balance of $8,400 in credit card debt. (If a person paid 2% of this balance per month, at an APR of 15%, it would take over 30 years to pay off the balanc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inu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% of all bankruptcies are from people under the age of 35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nessee leads the nation in personal bankruptcy fil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en Money Fac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a recent survey conducted by the financial firm Charles Schwab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% of teens stated that they could use credit car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6% of teens understood credit card interest and f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felt that they could create their own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inu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% claimed to have some idea about how to invest mo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% of American teens have credit card deb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6% of teens stated that they were concerned about their parents/guardians financial well be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613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33% of teens could read a bank statement, balance a checkbook, and pay bills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Content Placeholder 3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993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od New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tistics that we just discussed are bleak. However, the good news is that YOU have control over your financial future and time is definitely on your side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nancial habits that you learn now will have a profound impact upon your financial fu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nancial decisions you make will determine whether you will have control over your finances or your finances will control you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9:41:10Z</dcterms:created>
  <dc:creator>Sys Admin</dc:creator>
  <dc:description/>
  <dc:language>en-US</dc:language>
  <cp:lastModifiedBy>SysAdmin</cp:lastModifiedBy>
  <dcterms:modified xsi:type="dcterms:W3CDTF">2011-10-31T12:00:15Z</dcterms:modified>
  <cp:revision>44</cp:revision>
  <dc:subject/>
  <dc:title>Personal Finance</dc:title>
</cp:coreProperties>
</file>